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9CD-EF74-4D44-87DE-7915FD13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797-EB10-47E9-90C2-A48742F0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393-5295-4DFE-9CAF-87AE3984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E7D-9E8B-4104-9676-AE63E085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9FE-4925-4C2B-8A3A-CC8F9668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4D7-7DBB-4B94-8A9D-83D87E61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0AC-2DD8-4382-B72E-0F11C6DE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80C-3720-49A7-9006-01FC3A6F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B03-7DF4-4501-A530-C9A8EE76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847-BDBA-4E35-A808-99CAB7B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DCB-CFA6-49A4-B6FE-B115573E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06A9-11B4-489B-99E2-123BB09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AD07-C230-444E-8B1F-ED24BB75F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gram\Desktop\ΣΕΚ 2010\ΚΡΗΤΗ\DSCN9904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82560" y="1928880"/>
            <a:ext cx="5918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 - Τίτλος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240760" cy="14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gram\Desktop\ΚΡΗΤΗ\PHOTO SLIDE\υακινθος\DSCN98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Μιτάτ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5640" y="1285560"/>
            <a:ext cx="64292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Κατάλυμα βοσκού φτιαγμένο από ξερολιθι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gram\Desktop\ΚΡΗΤΗ\PHOTO SLIDE\υακινθος\DSCN2006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Μιτάτ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ORIGPICS\SHOW_07\P1000706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4 - TextBox"/>
          <p:cNvSpPr/>
          <p:nvPr/>
        </p:nvSpPr>
        <p:spPr>
          <a:xfrm>
            <a:off x="5429160" y="642960"/>
            <a:ext cx="3643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Το Μιτάτο κατασκευάζεται από φυσική ή και ημικατεργασμένη πέτρα, είναι καμπυλόσχημο και έχει θολωτό σχήμα στη κορυφ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gram\Desktop\ΣΕΚ 2010\ΚΡΗΤΗ\DSCN9887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Οι μαθητές στο Μιτάτ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gram\Desktop\ΚΡΗΤΗ\PHOTO SLIDE\υακινθος\IMG_314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Φωτογραφία της ομάδας στο Μιτάτ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gram\Desktop\ΚΡΗΤΗ\PHOTO SLIDE\υακινθος\IMG_3163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Άγιος Υάκινθ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- TextBox"/>
          <p:cNvSpPr/>
          <p:nvPr/>
        </p:nvSpPr>
        <p:spPr>
          <a:xfrm>
            <a:off x="0" y="578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Μιτάτο  - εκκλησάκ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gram\Desktop\ΚΡΗΤΗ\PHOTO SLIDE\υακινθος\IMG_3169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Θέατρο Υακίνθ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gram\Desktop\ΚΡΗΤΗ\PHOTO SLIDE\υακινθος\IMG_3178.JPG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910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Δραστηριότητα μαθητών στο Θέατρο Υακίνθ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49cdc"/>
                </a:solidFill>
                <a:latin typeface="Arial Black"/>
              </a:rPr>
              <a:t>Σπήλαια</a:t>
            </a:r>
            <a:r>
              <a:rPr b="0" lang="en-US" sz="4400" spc="-1" strike="noStrike">
                <a:solidFill>
                  <a:srgbClr val="749cdc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749cdc"/>
                </a:solidFill>
                <a:latin typeface="Arial Black"/>
              </a:rPr>
              <a:t>Κρήτ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71320" y="2857680"/>
            <a:ext cx="7561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Εργασία - μαθητέ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Κωνσταντίνα Καβούκ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Γιάννης Ποτουρίδ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71640" y="25653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opi\DSCN98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56880" y="2500200"/>
            <a:ext cx="5572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φυσική κοιλότητα του εδάφους, αρκετά μεγάλη, ώστε να χωράει ένας άνθρωπο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2 - Θέση περιεχομένου"/>
          <p:cNvSpPr/>
          <p:nvPr/>
        </p:nvSpPr>
        <p:spPr>
          <a:xfrm>
            <a:off x="0" y="100008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entury Gothic"/>
              </a:rPr>
              <a:t>Ιδαίον Άντρο στον Ψηλορείτ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Ιδαίον Άντρο στον Ψηλορείτ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Η Ελλάδα καλύπτεται κατά 60% από ασβεστολιθικά πετρώματα που είναι η βασική αιτία σπηλαιογέννεση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gram\Desktop\ΣΕΚ 2010\ΚΡΗΤΗ\DSCN98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2560" y="4786200"/>
            <a:ext cx="88009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Ιδιαίτερα εντυπωσιακή είναι η λάμψη από μικροσκοπικούς κρυστάλλους ανθρακικού ασβεστίο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φενδόν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 - Εικόνα" descr="Το σπήλαιο Σφενδόνη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5643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Σφενδόνη - Ζωνιαν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4 - Θέση περιεχομένου"/>
          <p:cNvSpPr/>
          <p:nvPr/>
        </p:nvSpPr>
        <p:spPr>
          <a:xfrm>
            <a:off x="-142920" y="5572080"/>
            <a:ext cx="9286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Το σπήλαιο είναι ένα από τα ομορφότερα σπήλαια της Ελλάδας  καταλαμβάνει έκταση 3000 τμ. κι είναι από τα εντυπωσιακότερα στην Ελλάδα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7 - Εικόνα" descr="zoniana-cave-I0526.jpg"/>
          <p:cNvPicPr/>
          <p:nvPr/>
        </p:nvPicPr>
        <p:blipFill>
          <a:blip r:embed="rId1"/>
          <a:stretch/>
        </p:blipFill>
        <p:spPr>
          <a:xfrm>
            <a:off x="5778360" y="-79200"/>
            <a:ext cx="3372120" cy="44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gram\Desktop\ΣΕΚ 2010\ΣΠΗΛΑΙΑ-ERGASIES\ΣΤΕΛΛΑ ΧΑΛΚΙΑΔΑΚΗ\zwgiana.jpg"/>
          <p:cNvPicPr/>
          <p:nvPr/>
        </p:nvPicPr>
        <p:blipFill>
          <a:blip r:embed="rId2"/>
          <a:stretch/>
        </p:blipFill>
        <p:spPr>
          <a:xfrm>
            <a:off x="0" y="0"/>
            <a:ext cx="5883120" cy="4281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85840" y="435780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Αναρίθμητοι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σταλακτίτες και σταλαγμίτες,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ποικιλόμορφοι και πολύχρωμοι, διακοσμούν τις αίθουσες του ενώ σε πολλά σημεία υπάρχουν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λιθωματικές λεκάνες νερο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και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μαργαριτάρια σπηλαίων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Στα 270 μέτρα της διαδρομής του ογκώδεις κολώνες δημιουργούν δαιδαλώδη διαμερίσματα μέσα στο σπήλαιο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Σπήλαιο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Σφενδόνη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7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-360" y="5143680"/>
            <a:ext cx="9358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Ιδιαίτερα εντυπωσιακή είναι η λάμψη από μικροσκοπικούς κρυστάλλους ανθρακικού ασβεστί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φενδόν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gram\Desktop\ΚΡΗΤΗ\PHOTO SLIDE\σφενδόνη\IMG_303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468360" y="620640"/>
            <a:ext cx="75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πήλαι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Σφενδόνη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 Ζωνιαν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gram\IMG_3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Έξω από το σπήλαιο Σφενδό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38:37Z</dcterms:created>
  <dc:creator>gram</dc:creator>
  <dc:description/>
  <dc:language>en-US</dc:language>
  <cp:lastModifiedBy>gram</cp:lastModifiedBy>
  <dcterms:modified xsi:type="dcterms:W3CDTF">2010-05-16T08:55:00Z</dcterms:modified>
  <cp:revision>13</cp:revision>
  <dc:subject/>
  <dc:title>Σπήλαια Κρήτης</dc:title>
</cp:coreProperties>
</file>